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breeze.wav" ContentType="audio/x-wav"/>
  <Override PartName="/ppt/media/image3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E18-8990-4473-AD83-0ED335B2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FDD-DC3E-4146-A101-5B905B14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DA9-899C-49B0-9B91-3E078A3A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2CF-64CA-4E82-BCCD-C2B33FFA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B04-6D07-46E3-8990-ACCC482C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4445-DDC2-4208-9648-AAE94E58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8F75-BD65-4944-84F4-88AC04C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4148-8F63-4293-93F0-326A9357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28F-7AB0-4AC3-867D-5629B46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817-45FE-44D3-A418-4CEC1F29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893D-5E85-4C96-88B9-D05F912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F0F-FB8A-4EDD-AF59-816CE1C3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0D56-A536-40C2-860A-EADA62F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79C8-E277-4D7A-A884-B955437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BE90-AE8F-4EF3-AB33-F718EC34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5D2C-4100-4731-9405-F8D4FD87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5D1C-09AC-4585-808F-580DB6D9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D284F-8090-4727-B0A4-1490E274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EC1D-7166-43F0-B37B-7850C5D4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1B20-545E-4C96-958E-70D67457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B72A-CC14-4212-A343-1991EBF8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2835-E682-4275-83BC-1E8F30B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BC3-F19D-4446-99C7-432B01C5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09B4-8EB4-48F3-8A3E-C474A610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6E91-2966-426A-8881-DB4CB5F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0FDA-93F7-4B3B-AF4E-C87D64D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A94B-DB88-45D3-9DD7-5E3D5696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9357-D142-4278-8486-77067CB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BB85-03EA-431A-A288-5DFECE63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380D-8337-45B0-91D7-A7EBAC3B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4BD9-3AD1-4605-A39F-7D38487C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C6564-9EFC-460A-9C18-DC2246BE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2233-B391-41BA-8B65-76D8343B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013-8E80-4CCB-BD16-A2EBCBE7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A730-6CD9-4DAE-94C7-5F97B7D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FDFD6-E059-4752-B57A-117121C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E45C-6253-4C8F-BBC8-1772392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A5E4-65BC-4804-BA03-48755AF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B3C9-5E62-4479-A5D1-7848777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2343-49CD-4C50-8714-CA04DEC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A4C7-16F6-4D2B-946B-FBBB1975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D295B-5391-4CD0-81EE-15589DDA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51F9-84A1-47AA-B660-5C4451FF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171-B205-47C5-B1A4-21541A0C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A97-07FD-4220-BDF6-4F422C90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630-E67E-4043-9DC0-F621EE0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530-DF0C-4FB4-9944-4681D6C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160-F343-47FB-93D3-5E72A0E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9026-EC41-4987-8582-63851AB6C8D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74EC-9260-4924-93F6-D7EB42C6F9B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4005-D9AA-4A8F-81B3-B2EC4AD06B8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7F5B-4710-4C74-B0AC-4BE0E326282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4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3.xml"/><Relationship Id="rId5" Type="http://schemas.openxmlformats.org/officeDocument/2006/relationships/slide" Target="slide14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6.xml"/><Relationship Id="rId9" Type="http://schemas.openxmlformats.org/officeDocument/2006/relationships/slide" Target="slide1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9.xml"/><Relationship Id="rId16" Type="http://schemas.openxmlformats.org/officeDocument/2006/relationships/slide" Target="slide19.xml"/><Relationship Id="rId17" Type="http://schemas.openxmlformats.org/officeDocument/2006/relationships/slide" Target="slide10.xml"/><Relationship Id="rId18" Type="http://schemas.openxmlformats.org/officeDocument/2006/relationships/slide" Target="slide20.xml"/><Relationship Id="rId19" Type="http://schemas.openxmlformats.org/officeDocument/2006/relationships/slide" Target="slide11.xml"/><Relationship Id="rId20" Type="http://schemas.openxmlformats.org/officeDocument/2006/relationships/slide" Target="slide21.xml"/><Relationship Id="rId21" Type="http://schemas.openxmlformats.org/officeDocument/2006/relationships/slide" Target="slide12.xml"/><Relationship Id="rId22" Type="http://schemas.openxmlformats.org/officeDocument/2006/relationships/slide" Target="slide22.xml"/><Relationship Id="rId23" Type="http://schemas.openxmlformats.org/officeDocument/2006/relationships/image" Target="../media/image4.gif"/><Relationship Id="rId24" Type="http://schemas.openxmlformats.org/officeDocument/2006/relationships/audio" Target="../media/breeze.wav"/><Relationship Id="rId25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8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483920"/>
            <a:ext cx="78469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語故事</a:t>
            </a:r>
            <a:endParaRPr b="1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1081080" cy="12956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折其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晉國時，有範氏和中行氏兩個集團的人，準備起兵攻打晉定公；當時有人指出戰事成功和失敗的關鍵，要看民眾是否支持，假如不能取得民眾的信任和支持，便將失敗無疑。範氏和中行氏起兵攻打晉定公是一種反叛行為，民眾自將不會支持也們的。何況晉定公自己曾經伐君失敗，落得流居异國的田地，可以說是經歷過失敗的過來人。正如一個經過三次折傷手臂的人，雖經醫療後獲得痊愈，但他已嘗透了折臂的滋味；在幾次三番的折臂和治療的經歷中，他已了解到折臂的原因，和治療的經過與方法，換句話說，他已是個中的老手了。所以“三折其肱”這句成語的含義，是頗為深刻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不論何人，衹要他是經過多次挫折，從艱苦中奮鬥而得到成功的，我們都可以說地是與困境奮鬥過的“三折其肱”的人。世界上的偉大人物，並不是與生俱來的。他一定是經歷了不少挫折，卻仍不斷地奮鬥，結果才得成功。失敗是成功之母，我們正可以借用偉人們的“三折其肱”來勉人自勉。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900000" y="620640"/>
            <a:ext cx="792360" cy="7207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三人成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戰國時代，互相攻伐，為了使大家真正能遵守信約，國與國之間通常都將太子交給對方作為人質。“戰國策”：“魏策”有這樣一段記載：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魏國大臣龐蔥，將要陪魏太子到趙國去作人質，臨行前對魏王說：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現在有個一人來說街市上出現了老虎，大王可相信嗎？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魏王道：“我不相信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龐蔥說：“如果有第二個人說街市上出現了老虎，大王可相信嗎？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魏王道：“我有些將信將疑了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龐蔥又說：“如果有第三個人說街市上出現了老虎，大王相信嗎？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魏王道：“我當然會相信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龐蔥就說：“街市上不會有老虎，這是很明顯的事，可是經過三個人一說，好像真的有了老虎了。現在趙國國都邯鄲離魏國國都大梁，比這裡的街市遠了許多，議論我的人又不止三個。希望大王明察才好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魏王道：“一切我自己知道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龐蔥陪太子回國，魏王果然沒有再召見也了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市是人口集中的地方，當然不會有老虎。說市上有虎，顯然是造謠、欺騙，但許多人這樣說了，如果不是從事物真相上看問題，也往往會信以為真的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這故事本來是諷刺魏惠王無知的，但後世人引伸這故事成為“三人成虎”這句成語，乃是借來比喻有時謠言可以掩蓋真相的意思。例如：判斷一件事情的真偽，必須經過細心考察和思考，不能道聽途說。否則“三人成虎”，有時會誤把謠言當成真實的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6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5445000"/>
            <a:ext cx="712800" cy="8035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士別三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三國時代東吳的呂蒙，可說是一個博學多才的人，周瑜死後，他繼任東吳的都督。設計擊敗了蜀漢的關羽，派部將潘璋把關羽殺死後，不久地也死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呂蒙本來是一個不務正業不肯用功的人，所以沒有什麼學識。魯肅見了他，覺得沒有什麼可取的地方，後來，魯肅再遇見他時，看見他和從前完全不同，是那樣威武，踉他談起軍事問題來，顯得很有知識，使魯肅覺得很驚異。便笑著對位開玩笑說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現在，你的學識這麼好，既英勇，又有如謀，再也不是吳下的阿蒙了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呂蒙答道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人別後三天，就該另眼看待呀！”呂蒙的話，原文是“士別三日，刮目相待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後來的人，便用“士別三日”這句話，來稱贊人離開後不久，進步很快的意思。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308720" y="5516640"/>
            <a:ext cx="1211400" cy="7207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標楷體"/>
              <a:ea typeface="標楷體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上下其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春秋楚襄王二十六年。楚國出兵侵略鄭國。以當時楚國那麼大，弱小的鄭國，實在沒有能力抵抗的，結果，鄭國遭遇到戰敗的厄運，連鄭王頡也被楚將穿封戌俘虜了。戰事結束後，楚軍中有楚王弟公子圍，想冒認俘獲鄭頡的功勞，說鄭王頡是由他俘獲的，于是穿封戌和公子圍二人便發生爭執，彼此都不肯讓步，一時沒有辦法解決得來。後來，他們便請伯犁作公正人，判定這是誰的功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伯州犁的解紛辦法本是很公正的，他主張要知道這是誰的功勞，最好是問問被俘的鄭王。于是命人帶了鄭王頡來，伯州犁便向他說明原委，接著手伸二指，用上手指代表楚王弟公子圍，用下手指代表楚將穿封戌，然後問他是被誰俘獲的。鄭王頡因被穿封戌俘虜，很是恨他，便指著上手指，表示是被公子圍所俘虜。于是，伯州犁便判定這是公子圍的功勞。“上下其手”這句成語便是出于這個故事；是表示玩法作弊，顛倒是非的意思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在現在的社會中，這種情形是常常會發生的：譬如有人做了不法的事情，知道罪有應得，難逃被懲處的厄運；于是暗地裡進行賄賂，或請托親友奔走求情，求予包庇，結果大事化小，小事化無，仍得消遙法外。像這種參與其事的人，從中枉法舞弊，便可以說是：“上下其手”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885080" y="620640"/>
            <a:ext cx="649440" cy="36036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亡羊補牢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這故事出自“戰國策”。戰國時代，楚國有一個大臣，名叫莊辛，有一天對楚襄王說：“你在宮裏面的時候，左邊是州侯，右邊是夏侯；出去的時候，鄢陵君和壽跟君又總是隨看你。你和這四個人專門講究奢侈淫樂，不管國家大事，郢（楚都，在今湖北省江陵縣北）一定要危險啦！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襄王聽了，很不高與，氣罵道：“你老糊塗了嗎？故意說這些險惡的話惑亂人心嗎？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莊辛不慌不忙的回答說：“我實在感覺事情一定要到這個地步的，不敢故意說楚國有什麼不幸。如果你一直寵信這個人，楚國一定要滅亡的。你既然不信我的話，請允許我到趙國躲一躲，看事情究竟會怎樣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莊辛到趙國才住了五個月，秦國果然派兵侵楚，襄王被迫流亡到陽城（今河南息縣西北）。這才覺得莊辛的話不錯，趕緊派人把莊辛找回來，問他有什麼辦法；莊辛很誠懇地說：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我聽說過，看見兔子牙想起獵犬，這還不晚；羊跑掉了才補羊圈，也還不遲。……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這是一則很有意義的故事，衹知道享樂，不知道如何做事，其結果必然是遭到悲慘的失敗無疑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亡羊補牢”這句成語，便是根據上面約兩句話而來的，表達處理事情發生錯誤以後，如果趕緊去挽救，還不為遲的意思。例如一個事業家，因估計事情的發展犯了錯誤，輕舉冒進，陷入失敗的境地。但他並不氣餒，耐心地將事情再想了一遍，從這次的錯誤中吸取教訓，認為“亡羊補牢”，從頭做起，還不算晚呢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028000" y="62064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尸位素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尸音史，是古代祭禮中的一個代表神像端坐看而不須要做任何動作的人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書經”有句道：“太康尸位””尸位就是源出于此，用來比喻一個有職位而沒有工作做的人，正如祭禮中的尸，衹坐在位上，不必做任何動作一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素餐”也是出于詩經：“彼君子兮，不素餐兮。”後人于是用“素餐”來比喻無功食祿的人。把“尸位”和“素餐”兩者連合成為一句成語，應該說是出于“漢書”，因為該書的“朱雲傳”裹：“今朝廷大臣，上不能匡主，下亡以益民，皆尸位素餐。”整句成語的意思，也是和上述的尸位和素餐相同。這樣說，我們要研究成語的出處，對這句成語分合的出處，也應該詳細知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一般機關、社團、商店的冗員，憑看人事或其他特殊的關係，衹知道每月按期領取薪金，每日吃喝閑坐，而不做任何工作，這種人都可以說是“尸位素餐”。此外，一般工作能力很差的人，雖然已經盡了自己的能力服務，但事情總是做不好，毫無成積可言，這種人能夠保持職位，不是靠自己的本領，而是藉著特殊關係，因此也可以說“尸位素餐”。又如某人向朋友說，自己本來沒有甚麼本領，幸蒙東主的照顧，得到解決生活，但自己“尸位素餐”，良心上也有點內疚。這樣說，又成為很得體的謙話了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885080" y="5229360"/>
            <a:ext cx="833400" cy="10238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涯海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韓愈，字退之，是唐代中葉時的偉大文學家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他二歲時就死了父親，不久他的母親又死去。幼時依靠他哥哥韓會和嫂嫂鄭夫人過活。韓會有一個嗣子（愈次兄介之子，出繼與長兄會為嗣）叫老成，排行十二，所以小名叫十二郎，年紀此韓愈小一點。後來韓會四十二歲的時候，因宰相元載的事，貶為韶州刺史，不到幾個月就病死在韶州，這時韓愈衹有十一歲，十二郎也很小。韓愈雖然有三個哥哥（會、弁、介），都很早離開了人世。這時，繼承祖先後代的，衹有韓愈和他的侄子十二郎兩個人，零丁孤苦，沒有一天離開過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韓愈十九歲時自宜城前往京城，以後十年的時間中，衹和十二郎見過三次面。當他正打算西歸和十二郎永遠生活在一起的時候，不幸十二郎就在這時死去了。韓愈知道了這消息，悲痛欲絕，寫了一篇“祭十二郎文”，叫建中備了一些時下的物品從老遠的地方去致祭他。這篇祭文，一字一淚，令人讀來心酸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祭文中有“一在天之涯，一在地之角。”的句子，後人便把它引伸成“天涯海角”這句話，用來比喻極其遙遠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740720" y="620640"/>
            <a:ext cx="792000" cy="8636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內助之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晏嬰是戰國時齊景公的宰相，軀體不甚高大，據云長不滿六尺（相當現在四尺三寸）但他很有才幹，名聞諸侯，有一天晏嬰出門，坐看車子，由他的御者（馬車夫）駕車。那位御者的妻子很賢淑，當御者駕看車子，經過自己家的門口時，他的妻子在門縫裏偷看，看見她丈夫揮看馬鞭，現出洋洋得意的樣子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當天晚上她丈夫回家時，她就責他道：“晏嬰身長不滿六尺，當了齊國的宰相，而且名聞天下，各國諸侯都知道他，敬仰他。我看他的態度，還是很謙虛，一點也沒有自滿的意思；你身長八尺，外表比他雄偉得多，衹做了他的駕車人，還洋洋得意，顯得很睛傲的樣子，所以你不會發達，衹能做些低賤的職務，我實在替你覺得難為情啊！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御者自從聽了他妻子的話後，態度逐漸轉變了，處處顯得謙虛和藹，晏嬰看見御者突然謙和起來，覺得很奇怪，問他的原因；御者就把妻子所說的一番話老老實實地告訴晏嬰。晏嬰為他聽到諫勸，能夠馬上改過，是一個值得提拔的人，于是推荐他當了大夫的官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由這內助之賢的故事，後人把它引伸拙來，恭維人家有賢淑的妻子。今日一般人對妻子能夠幫助丈夫，使丈夫的事業、學業、品格方面都有了進展，增加丈夫在社會上的地位，就稱他有內助之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956720" y="5373720"/>
            <a:ext cx="666720" cy="8636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買櫝還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　春秋時代，楚國有一個商人，專門賣珠寶的，有一次他到齊國去兜售珠寶，為了生意好，珠寶暢銷起見，特地用名貴的木料，造成許多小盒子，把盒子雕刻裝飾得非常精致美觀，使盒子會發出一種香味味，然後把珠寶裝在盒子裏面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　有一個鄭國人，看見裝寶珠的盒子既精致又美觀，問明了價錢後，就買了一個，打開盒子，把裏面的寶物拿出來，退還給珠寶商。成語故事主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807840" cy="6080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司空見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唐朝的時候，有一個吟詩和作文章都很出色的人，名叫劉禹錫，他中了進士後，便在京做監察御史；因為他的名放蕩不羈的性格，在京中受人排擠，被貶做蘇州刺史。就在蘇州刺史的任內，當地有一個曾任過司空官職的人名叫李紳，因仰慕劉禹錫的聞名，邀請他飲酒，並請了幾個歌妓來在席上作陪。在飲酒間，劉禹錫一時詩興大發，便做了這樣的一首詩：“高髻雲鬢新樣，春風一曲杜韋娘，司空見慣渾閑事，斷盡蘇州刺史腸。”“司空見慣”這句成語，就是從劉禹錫這首詩中得來的。這首詩中所用的司空兩個字，是唐代一種官職的名稱，相等于清代的尚書。從劉禹錫的詩來看，整句成語的意思，就是指李司空對這樣的事情，已經見慣，不覺得奇怪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這是一句很常用的成語，但有很多人仍會把它錯用，因為尋常的事情，如果是發生的很自然，便不可以引用這句成語。如早晨的時候，太陽從東方出來，到黃昏的時候，太陽便在西方沒落，這樣便不能說“司空見慣”。有些事情發生的很偶然，而又常常會聽到的，此方在大都市街道上夾往的車輛，平常都是很安全地來往看，但很多時候，常會發生意外，不是輾傷了人，便是碰傷了車，這樣的事情，我們看多了，則用“司空見慣”四字便恰當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51640" y="5229360"/>
            <a:ext cx="1085760" cy="10080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eec94"/>
                </a:solidFill>
                <a:latin typeface="Times New Roman"/>
                <a:ea typeface="標楷體"/>
              </a:rPr>
              <a:t>成語故事主題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" action="ppaction://hlinksldjump"/>
              </a:rPr>
              <a:t>一字千金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1.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2" action="ppaction://hlinksldjump"/>
              </a:rPr>
              <a:t>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3" action="ppaction://hlinksldjump"/>
              </a:rPr>
              <a:t>上下其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4" action="ppaction://hlinksldjump"/>
              </a:rPr>
              <a:t>一飯千金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2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5" action="ppaction://hlinksldjump"/>
              </a:rPr>
              <a:t>亡羊補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3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6" action="ppaction://hlinksldjump"/>
              </a:rPr>
              <a:t>一丘之貉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3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7" action="ppaction://hlinksldjump"/>
              </a:rPr>
              <a:t>尸位素餐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4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8" action="ppaction://hlinksldjump"/>
              </a:rPr>
              <a:t>一暴十寒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4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9" action="ppaction://hlinksldjump"/>
              </a:rPr>
              <a:t>天涯海角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0" action="ppaction://hlinksldjump"/>
              </a:rPr>
              <a:t>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1" action="ppaction://hlinksldjump"/>
              </a:rPr>
              <a:t>一事無成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5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2" action="ppaction://hlinksldjump"/>
              </a:rPr>
              <a:t>內助之賢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6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3" action="ppaction://hlinksldjump"/>
              </a:rPr>
              <a:t>一木難支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6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4" action="ppaction://hlinksldjump"/>
              </a:rPr>
              <a:t>買櫝還珠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7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5" action="ppaction://hlinksldjump"/>
              </a:rPr>
              <a:t>三生有幸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7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6" action="ppaction://hlinksldjump"/>
              </a:rPr>
              <a:t>司空見慣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8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7" action="ppaction://hlinksldjump"/>
              </a:rPr>
              <a:t>三折其肱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8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8" action="ppaction://hlinksldjump"/>
              </a:rPr>
              <a:t>四面楚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19" action="ppaction://hlinksldjump"/>
              </a:rPr>
              <a:t>三人成虎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9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20" action="ppaction://hlinksldjump"/>
              </a:rPr>
              <a:t>名落孫山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0.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21" action="ppaction://hlinksldjump"/>
              </a:rPr>
              <a:t>士別三日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. 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  <a:hlinkClick r:id="rId22" action="ppaction://hlinksldjump"/>
              </a:rPr>
              <a:t>杞人憂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3"/>
          <a:stretch/>
        </p:blipFill>
        <p:spPr>
          <a:xfrm>
            <a:off x="4140360" y="2852640"/>
            <a:ext cx="1074600" cy="10670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24" name="breez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四面楚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項羽和劉邦原來約定以鴻溝（在今河南榮縣境賈魯河）東西邊作為界限，互不侵犯。後來劉邦聽從張良和陳平的規勸，覺得應該趁項羽衰弱的時候消滅他，就又和韓信、彭越、劉賈會合兵力追擊正在向東開往彭城（即今江蘇徐州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的項羽部隊。終于布置了幾層兵力，把項羽緊緊圍在垓下（在今安徽靈璧縣東南）。這時，項羽手下的兵士已經很少，糧食又沒有了。夜裡聽見四面圍住他的軍隊都唱起楚地的民歌，不禁非常吃驚地說：“劉邦已經得到了禁地了嗎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為什麼他的部隊裏面楚人這麼多呢？”說看，心裡已喪失了鬥志，便從床上爬起來，在營帳裏面喝酒；並和他最寵愛的妃子虞姬一同唱歌。唱完，直掉眼淚，在旁的人也非常難過，都覺得抬不起頭來。一會，項羽騎上馬，帶了僅剩的八百名騎兵，從南突圍逃走。邊逃邊打，到烏江畔自刎而死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因為這個故事裏面有項羽聽見四周唱起楚歌，感覺吃驚，接看又失敗自殺的情節，所以以後的人就用“四面楚歌”這句話，形容人們遭受各方面攻擊或逼迫的人事環境，而致陷于孤立窘迫的境地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凡是陷于此種境地者，其命運往往是很悲慘的，例如某人因經常與壞人為伍，不事生產，游手好閒；但後來卻破那些壞人逼迫的無以為生，求助于別人時，別人也應他平日行為太壞，絕不同情更不理睬，這人所處的境地便是“四面楚歌”。又如學校裏討論學術問題，其學生不學無術（成語，意即沒有學術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、信口雌黃、顛倒是非，同學們群起而攻之，這學生便完全處于孤立地位，這也可叫做“四面楚歌”。在我們的人生歷程上，在我們的日常生活中，好好的做人，腳踏實地的做事，若是行差踏錯，就未免要遭受“四面楚歌”的厄運了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7451640" y="5157720"/>
            <a:ext cx="1054080" cy="10796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名落孫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在我國宋朝的時候，有一個名叫孫山的才子，他為人不但幽默，而且很善于說笑話，所以附近的人就給他取了一個“滑稽才子”的綽號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有一次，他和一個同鄉的兒子一同到京城，去參加舉人的考試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放榜的時候，孫山的名字雖然被列在榜文的倒數第一名，但能然是榜上有名，而那位和他一起去的那位同鄉的兒子，卻沒有考上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不久，孫山先回到家裏，同鄉便來問他兒子有沒有考取。森山既不好意思直說，又不便隱瞞，于是，就隨口念出兩句不成詩的詩句來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解元盡處是孫山，賢郎更在孫山外。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解元，就是我國科舉制度所規定的舉人第一名。而孫山在詩裏所謂的“解元”，乃是泛指一般考取的舉人。他這首詩全部的意思是說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舉人榜上的最後一名是我孫山，而令郎的名字卻還在我孫山的後面。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從此，人們便根據這個故事，把投考學校或參加各種考試，沒有被錄取，叫做“名落孫山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96360" y="5373720"/>
            <a:ext cx="876240" cy="9097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杞人憂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從前在杞國，有一個膽子很小，而且有點神經質的人，他常會想到一些奇怪的問題，而讓人覺得莫名其妙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有一天，他吃過晚飯以後，拿了一把大蒲扇，坐在門前程量，並且自言自語的說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假如有一天，天塌了下來，那該怎麼辦呢？我們豈不是無路可逃，而將活活地被壓死，這不就太冤枉了嗎？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從此以後，他幾乎每天為這個問題發愁、煩惱，朋友見他終日精神恍惚，臉色憔悴，都很替他擔心，但是，當大家知道原因後，都跑來勸他說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老兄啊！你何必為這件事自尋煩惱呢？天空怎麼會塌下來呢？在說即使真的塌下來，那也不是你一個人憂慮發愁就可以解決的啊，想開點吧！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可是，無論人家怎麼說，他都不相信，仍然時常為這個不必要的問題擔憂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後來的人就根據上面這個故事，引伸成“杞人憂天”這句成語，它的主要意義在喚醒人們不要為一些不切實際的事情而憂愁。它與“庸人自擾”的意義大致相同。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成語故事主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241280" cy="103176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一飯千金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幫助漢高祖打平天下的大將韓信，在未得志時，境況很是困苦。那時侯，他時常往城下釣魚，希望碰著好運氣，便可以解決生活。但是，這究竟不是可靠的辦法，因此，時常要餓著肚子。幸而在他時常釣魚的地方，有很多漂母（清洗絲棉絮或舊衣布的老婆婆）在河邊作工的，其中有一個漂母，很同情韓信的遭遇，便不斷的救濟他，給他飯吃。韓信在艱難困苦中，得到那位以勤勞克苦僅能以雙手勉強糊口的漂母的恩惠，很是感激她，便對她說，將來必定要重重的報答她。那漂母聽了韓信的話，很是不高興，表示並不希望韓信將來報答她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後來，韓信替漢王立了不少功勞，被封為楚王，他想起從前曾受過漂母的恩惠，便命從人送酒菜給她吃，更送給她黃金一千兩來答謝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這句成語就是出于這個故事的。它的意思是說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受人的恩惠，切莫忘記，雖然所受的恩惠很是微小，但在困難時，即使一點點幫助也是很可貴的；到我們有能力時，應該重重地報答施惠的人才是合理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我們運用這成語時，必須透澈成語故事主題的了解它的含義，第一，真心誠意的樂于助人的人，是永遠不會想人報答他的；第二，有錢人對窮人的救濟，那是一種捐助，即使窮人真有一天得志了去報答他，也不能稱之謂“一飯千金”；第三，最難能可貴的是在自己也十分困難的情形下，出于友愛、同情的去幫助別人，這樣的幫助，在別人看來，確是“一飯”值得“千金”的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3" action="ppaction://hlinksldjump"/>
              </a:rPr>
              <a:t>成語故事主題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500720" y="5373720"/>
            <a:ext cx="1150920" cy="7920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5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一字千金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 戰國末期，秦國有一個大商人，名叫呂不韋，他因在趙國經商時，曾資助過秦莊襄王（名子楚，當時在趙國做質子的抵押品）又把他的妾趙姬送給子楚為妻，待子楚接王位後，便被封為文信侯，官居相國。莊襄王在位僅三年便病死了，由他十三歲的兒子政（趙姬所生）接王位，便是歷史上有名的秦始皇，尊呂不韋為仲父，行政大權全操在呂不韋和趙姬的手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當時養士之風甚盛，有名的戰國四公子便都養有門客數千人，呂不韋也養了三千門客，作為他的智囊，想出種種辦法來鞏固他的政權。這些門客，三教九流的人，應有盡有，他們各人有各人的見解和心得；都提出來寫在書面上。匯集起來，成了一部二十餘萬言的巨著，提名“呂氏春秋”。呂不韋就把這部書作為秦國統一天下的經典。當時呂氏把這書在秦國首都咸陽公布：懸了賞格，說有人能在書中增加一字或減一字者，就賞賜千金（合黃金一斤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這段記載，見“史記”：“呂不韋傳”。後來的人，根據這個故事，引申成“一字千金”一句成語，用來形容一篇文章的價值很高，或者稱贊一篇文章在修辭上特別出色，字字珠磯，不可多得。例如我們讀到一位名學者的新作，他提出了一個新的教學方法，不但能提高學生的學業程度和品質，還能相應增加教師本身的進修，對這樣的一篇價值極高的文章，我們便可說它“一字千金”了。在近代的社會中，樣樣都成了商品，文章也不列外，那麼我們說，某著作家的一篇文章，稿費價格之高，相當于“一字千金”。不過，通常我們還是用來形容文章的價值或修辭的美妙比較妥當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356000" y="558972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一丘之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漢朝時有一個名人叫楊憚，他的父親是漢昭帝時的丞相楊敞，母親是人史學家司馬遷的女兒。他自幼便受到良好的教養，未成年時就成了當朝的名人。漢宣帝時大將霍光謀反，楊憚最先向宣帝報告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事後被封平通侯，當時在朝庭中做郎官的人，賄賂之風極熾，有錢的人可用錢行賄，經常在外玩樂；無錢行賄的人，甚至一年中也沒有一天休息。楊憚作中山郎後，便把這些弊病全部革除，滿朝官員都稱贊他的廉潔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但他因少年得志，又有功勞，便產生了驕傲自滿，結果與太僕長榮（長榮是宣帝舊友，最得信任）發生意見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有一次，楊憚聽見匈奴降漢的人說匈奴的領袖單于被人殺了，楊憚便說：“遇到一個這樣不好的君王，他的大臣給他擬好治國的策略而不用，使自己自白送了命，就像我國秦朝時的君王一樣，專門信任小人，殺害忠貞的大臣，結果國亡了。如果當年秦朝不如此，可能到現在國家還存在。從古到今的君王都是信任小人的，真像同一山丘出產的貉一樣，毫無差別呀！”就這樣，楊憚被免職了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自古君王勇于改過，不信饞言者能有幾人，楊憚僅被勉職，已是不幸申之大幸了。唉！“前漢書”：“楊憚傳”的原文是“古與今，如一丘之貂。”丘，土阜也，四邊高，中央低的土堆；貉，音鶴，俗稱樹貉，狀似狐小，毛黃褐色，深厚而溫滑，可做皮袍。後來的人將這兩句話引申成“一丘之貂”一句成語，來此喻同類沒有差別，像在同一個山丘裏生長的貂一樣，形體都是相同的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這成語在應用時，都是用來形容反面的事物，即使是形容否定的事物；含有不屑一談和譏誚的口吻。例如說有一群人專門造謠生事，無事生非，故意與人為難，他們中間沒有一個是好人，就可說：這批東西都是“一丘之貉”，那有一個是好人呢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一暴十寒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戰國時代，百家爭鳴，游說之風，十分盛行。一般游說之士，不但有高深的學問、豐富的知識，尤其是以有深刻生動的比喻，來諷勸執政者，最為凸出。孟子也是當時的一個著名辯士，在“孟子”的“告子”上篇中有這樣一段記載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　　孟子對齊王的昏庸，作事沒有堅持性、輕信奸佞讒言很不滿，便不客氣的對他說：“王也太不明智了，天下雖有生命力很強的生物，可是你把它在陽光下曬了一天，卻放在陰寒的地方凍了它十天，它那裡還活著成呢！我跟王在一起的時間是很短的，王即使有了一點從善的決心，可是我一離開你，那些奸臣又來哄騙你，你又會聽信他們的話，叫我怎麼辦呢？”按著，他使打了一個生動的比喻：“下棋看起來是件小事，但假使你不專心致志，也同樣學不好，下不贏，奕秋是全國最善下棋的能手，他教了兩個徒弟，其中一個專心致志，處處聽奕秋的指導；另一個卻老是怕著有大天鵝飛來，準備用箭射鵝。兩個徒弟是一個師傅教的，一起學的，然而後者的成績卻差得很遠。這不是他們的智力有什麼區別，而是專心的程度不一樣啊；”這是一個很有教學意義的故事，我們要學習一樣東西、做好一件事情，是非專心致志、下苦功夫不可的。若是今天做一些，把它丟下了，隔天十天再去做，那麼事情怎樣做得好呢？求學、做事的能否成功，這也是個決定因素之一，故後來的人便將孟子所說的“一日暴之，十日寒之”精簡成“一暴十寒”一句成語，用來比喻修學、做事沒有恒心，作輟無常的一種說法。例如一位同學，對于求學很是隨便，學習的時間少，荒廢的時間多，我們便說：他這種一曝十寒的作法，那裡能學到什麼東西呢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85080" y="5300640"/>
            <a:ext cx="1009800" cy="9367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事無成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唐朝的時候，有一個人當了省郎的官，因官運不怎麼亨通，不管做甚麼事情，往往都不如他的心意，所以時時出去，想藉游玩散散心。有一天，他到了京國寺，游倦了，就寄宿在寺裏。晚上做了一個夢；他夢中走到一處岩石下，碰到一位老和尚；在老和尚的面前，有一個極小香爐，爐檀香煙裊裊上升。老和尚對省官說道：“這小香爐中的香煙還是你許願時留存下來的，現在你已做了三世人了。你一世你是唐玄宗時代的劍南安撫巡官；第二世你是憲宗時候的西蜀書記，第三世就是現在的省郎官。”他聽了老和尚這番話，恍然有點覺悟，彷佛記憶三世所做的官，都是庸庸碌碌，一事無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于是，再也不願意在宦海里浮沈，對人生似乎恍然徹悟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又王中的詩句，也有“幹戈未定欲何之，一事無成兩鬢絲”的感嘆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現在上了年紀的人，事業上要是沒有成就的話，通常都是拿一事無成來感嘆。有時年紀不大的人，你問他事業做得怎樣，他也會說“一事無成”呀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56000" y="5516640"/>
            <a:ext cx="1009800" cy="7668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木難支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南北朝（劉）宋順帝的時候，蕭道成把持政權，殺害忠良，橫行恣肆，大有篡奪王室的企圖，當時大臣袁粲和劉東兩人，秘密商量要殺死蕭道成，但事機不密，被蕭道成同黨褚淵知道了，把秘密告訴蕭道成，蕭道成十分惱怒，立刻派部將戴僧靜率領了很多人馬去攻打袁粲，把城池團團圍住了。這時，袁藥對他的兒子袁最說：“我明知道一支木柱不能支持一座大廈的崩塌，但為了名譽義節，不得不死守下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後來，戴僧靜率領部下越墻衝進城裏去，在敵人的刀槍下，袁最勇敢地用身體去掩護他的父親，這時，袁粲對他的兒子袁最說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“我是個忠臣，你是個孝子，我們死而無愧。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結果他們父子倆都為正義而犧牲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後人便把袁粲當時所說“我明知道一支木柱不能支持一座大廈的崩塌”這句話，引伸成為“一木難支”這句成語，用來形容事情到了艱難危急的時候，並不是一個人或少數人的力量所能挽救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596360" y="5300640"/>
            <a:ext cx="936360" cy="9558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生有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唐朝有一個和尚，號國澤，對佛學有高深的造詣，和他的朋友李源善很要好，有一天，二人一同去旅行，路過一處地方，看見一個婦人在河邊汲水，那位婦人的肚子很大，已經懷孕了。圓澤指著婦人對李源善說：“這個婦人懷孕已經有三年了，等待我去投胎，做它的兒子，可是我一直避著，現在看見她，沒有辦法再避了。三天之後，這位婦人已經生產，到那個時候請你到她家去看看，如果嬰孩對你笑一笑，就是我了。就拿這一笑作為憑證吧！再等到第十三年那一年，中秋的月夜，我在杭州天竺寺等你，那時我們再相會罷。”他們分別後，就在這一天夜裹圓潭果然死了，同時那個孕婦也生了一個男孩子。第三天，李源善照看圓澤的話，到那位婦人家裏去探看，嬰兒果然對地笑了一笑。等到第十三年後的中秋月夜，李源善如期到達天竺寺去尋訪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剛到寺門口，就看到一個牧童在牛背上坐看唱歌，道：“三生石上舊情魂，賞月吟風不要論，慚愧情人遠相訪，此身雖异性常存。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現在一般人凡是比喻有特別的緣份。或朋友閑在一種偶然的機會裏或特殊的環境中相識，成為知己，又能夠幫助自己的，就以“三生有幸”來稱譽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ccccff"/>
                </a:solidFill>
                <a:uFillTx/>
                <a:latin typeface="標楷體"/>
                <a:ea typeface="標楷體"/>
                <a:hlinkClick r:id="rId2" action="ppaction://hlinksldjump"/>
              </a:rPr>
              <a:t>成語故事主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211640" y="5013360"/>
            <a:ext cx="1504800" cy="129996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4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03:52:10Z</dcterms:created>
  <dc:creator>kk</dc:creator>
  <dc:description/>
  <dc:language>en-US</dc:language>
  <cp:lastModifiedBy>kk</cp:lastModifiedBy>
  <dcterms:modified xsi:type="dcterms:W3CDTF">2002-07-24T16:07:35Z</dcterms:modified>
  <cp:revision>17</cp:revision>
  <dc:subject/>
  <dc:title>成語故事</dc:title>
</cp:coreProperties>
</file>